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6AF-DF6E-42BD-B6CB-B6BFC62D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9A7-229C-4F67-8D58-74708F56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968-E70C-4916-A74A-EECFC0EF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8FB-A658-494B-9C76-8F74C916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6A9-5203-4C89-9AB8-6A8B12EA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89F-D32F-40A2-A37E-6DB2572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41C-F020-4B47-8D46-E1DCA14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39D-8434-4DAF-B41C-8E27C90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4C6-F0E4-4B9B-8B08-BFF9273B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E46-DD9E-4C15-992A-AD69801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FCA-E2B6-44A0-B6B5-0C4668A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7DD-5B04-48D2-8F20-2A182BAE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04EC-78E0-437D-BF8F-0AC8D6797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rail%20from%20launc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wip_2001_1108_0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61048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wip_2001_0105_01" descr=""/>
          <p:cNvPicPr/>
          <p:nvPr/>
        </p:nvPicPr>
        <p:blipFill>
          <a:blip r:embed="rId1"/>
          <a:stretch/>
        </p:blipFill>
        <p:spPr>
          <a:xfrm>
            <a:off x="76320" y="71280"/>
            <a:ext cx="8991360" cy="678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wip_2001_0913_0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72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wip_2001_1018_02" descr=""/>
          <p:cNvPicPr/>
          <p:nvPr/>
        </p:nvPicPr>
        <p:blipFill>
          <a:blip r:embed="rId1"/>
          <a:stretch/>
        </p:blipFill>
        <p:spPr>
          <a:xfrm>
            <a:off x="228600" y="1476360"/>
            <a:ext cx="8763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wip_2001_0309_01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57232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wip_2001_0223_0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wip_2001_0126_12" descr=""/>
          <p:cNvPicPr/>
          <p:nvPr/>
        </p:nvPicPr>
        <p:blipFill>
          <a:blip r:embed="rId1"/>
          <a:stretch/>
        </p:blipFill>
        <p:spPr>
          <a:xfrm>
            <a:off x="380880" y="133200"/>
            <a:ext cx="85345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wip_2001_0202_0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wip_2001_0816_01" descr=""/>
          <p:cNvPicPr/>
          <p:nvPr/>
        </p:nvPicPr>
        <p:blipFill>
          <a:blip r:embed="rId1"/>
          <a:stretch/>
        </p:blipFill>
        <p:spPr>
          <a:xfrm>
            <a:off x="285840" y="1585800"/>
            <a:ext cx="857232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wip_2001_0209_0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wip_2001_0511_0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wip_2001_0719_08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81880" cy="52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wip_2001_1101_01" descr=""/>
          <p:cNvPicPr/>
          <p:nvPr/>
        </p:nvPicPr>
        <p:blipFill>
          <a:blip r:embed="rId1"/>
          <a:stretch/>
        </p:blipFill>
        <p:spPr>
          <a:xfrm>
            <a:off x="838080" y="331920"/>
            <a:ext cx="7696440" cy="63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wip_2001_0420_0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wip_2001_0413_0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05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wip_2001_0504_04" descr=""/>
          <p:cNvPicPr/>
          <p:nvPr/>
        </p:nvPicPr>
        <p:blipFill>
          <a:blip r:embed="rId1"/>
          <a:stretch/>
        </p:blipFill>
        <p:spPr>
          <a:xfrm>
            <a:off x="685800" y="452520"/>
            <a:ext cx="8001000" cy="58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wip_2001_0427_00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wip_2001_0119_05" descr=""/>
          <p:cNvPicPr/>
          <p:nvPr/>
        </p:nvPicPr>
        <p:blipFill>
          <a:blip r:embed="rId1"/>
          <a:stretch/>
        </p:blipFill>
        <p:spPr>
          <a:xfrm>
            <a:off x="533520" y="147600"/>
            <a:ext cx="8001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wip_2001_0518_01" descr=""/>
          <p:cNvPicPr/>
          <p:nvPr/>
        </p:nvPicPr>
        <p:blipFill>
          <a:blip r:embed="rId1"/>
          <a:stretch/>
        </p:blipFill>
        <p:spPr>
          <a:xfrm>
            <a:off x="285840" y="990720"/>
            <a:ext cx="857232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wip_2001_0406_0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c032" descr=""/>
          <p:cNvPicPr/>
          <p:nvPr/>
        </p:nvPicPr>
        <p:blipFill>
          <a:blip r:embed="rId1"/>
          <a:stretch/>
        </p:blipFill>
        <p:spPr>
          <a:xfrm>
            <a:off x="533520" y="360360"/>
            <a:ext cx="8305560" cy="61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wip_2001_1115_09" descr=""/>
          <p:cNvPicPr/>
          <p:nvPr/>
        </p:nvPicPr>
        <p:blipFill>
          <a:blip r:embed="rId1"/>
          <a:stretch/>
        </p:blipFill>
        <p:spPr>
          <a:xfrm>
            <a:off x="285840" y="1190520"/>
            <a:ext cx="857232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UN_045__1_" descr=""/>
          <p:cNvPicPr/>
          <p:nvPr/>
        </p:nvPicPr>
        <p:blipFill>
          <a:blip r:embed="rId1"/>
          <a:stretch/>
        </p:blipFill>
        <p:spPr>
          <a:xfrm>
            <a:off x="304920" y="244440"/>
            <a:ext cx="853416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c05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c06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Un__1_" descr=""/>
          <p:cNvPicPr/>
          <p:nvPr/>
        </p:nvPicPr>
        <p:blipFill>
          <a:blip r:embed="rId1"/>
          <a:stretch/>
        </p:blipFill>
        <p:spPr>
          <a:xfrm>
            <a:off x="228600" y="214200"/>
            <a:ext cx="861048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c072" descr=""/>
          <p:cNvPicPr/>
          <p:nvPr/>
        </p:nvPicPr>
        <p:blipFill>
          <a:blip r:embed="rId1"/>
          <a:srcRect l="0" t="0" r="555" b="0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c132" descr=""/>
          <p:cNvPicPr/>
          <p:nvPr/>
        </p:nvPicPr>
        <p:blipFill>
          <a:blip r:embed="rId1"/>
          <a:stretch/>
        </p:blipFill>
        <p:spPr>
          <a:xfrm>
            <a:off x="838080" y="696960"/>
            <a:ext cx="7467840" cy="54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cebergfoto" descr=""/>
          <p:cNvPicPr/>
          <p:nvPr/>
        </p:nvPicPr>
        <p:blipFill>
          <a:blip r:embed="rId1"/>
          <a:stretch/>
        </p:blipFill>
        <p:spPr>
          <a:xfrm>
            <a:off x="1143000" y="176040"/>
            <a:ext cx="6172200" cy="650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c172" descr=""/>
          <p:cNvPicPr/>
          <p:nvPr/>
        </p:nvPicPr>
        <p:blipFill>
          <a:blip r:embed="rId1"/>
          <a:stretch/>
        </p:blipFill>
        <p:spPr>
          <a:xfrm>
            <a:off x="685800" y="717480"/>
            <a:ext cx="77724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N_036__1_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Evening%20how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wip_2001_0705_lea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79088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ainbow%20reflection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eading%20north%20californ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tingray%20Grand%20Caym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La%20Digue%20Isla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alm%20before%20tempes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onument%20Valle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ver%20the%20countrysi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h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wip_2001_0601_08" descr=""/>
          <p:cNvPicPr/>
          <p:nvPr/>
        </p:nvPicPr>
        <p:blipFill>
          <a:blip r:embed="rId1"/>
          <a:stretch/>
        </p:blipFill>
        <p:spPr>
          <a:xfrm>
            <a:off x="762120" y="600120"/>
            <a:ext cx="7772400" cy="55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wip_2001_0802_0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wip_2001_0621_01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433692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wip_2001_0830_04" descr=""/>
          <p:cNvPicPr/>
          <p:nvPr/>
        </p:nvPicPr>
        <p:blipFill>
          <a:blip r:embed="rId1"/>
          <a:stretch/>
        </p:blipFill>
        <p:spPr>
          <a:xfrm>
            <a:off x="285840" y="1160640"/>
            <a:ext cx="8629560" cy="45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wip_2001_0809_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44766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6:21:14Z</dcterms:created>
  <dc:creator>Shoprite</dc:creator>
  <dc:description/>
  <dc:language>en-US</dc:language>
  <cp:lastModifiedBy>.</cp:lastModifiedBy>
  <dcterms:modified xsi:type="dcterms:W3CDTF">2002-11-12T14:29:47Z</dcterms:modified>
  <cp:revision>4</cp:revision>
  <dc:subject/>
  <dc:title>PowerPoint Presentation</dc:title>
</cp:coreProperties>
</file>